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170-A549-4574-BCFA-C4AF92CC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C04-9DE3-422F-96BC-626A5316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C23-705F-4646-81D0-E40113F2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5F5-5E4D-4DB2-90B2-9744B1FD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C4A-DD4C-45A5-B3D7-A925C0CE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B05-CA58-4338-9526-1174769E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526-BA1C-45CE-8295-229D2B08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271-1AA1-4F13-BA8F-98F9D0EC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4F0-06B5-466E-A7F0-56CD46FE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71C-31F5-4ADF-8CEF-B9B06CE6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1DB-51EE-4EFA-8789-FC866E43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361-92C1-4196-9B53-3E3803EF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2A14-FAF2-4F3D-B716-76A5A29F5A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757680" y="9835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怎样搜集资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25560" y="2116080"/>
            <a:ext cx="7459560" cy="4054680"/>
          </a:xfrm>
          <a:prstGeom prst="rect">
            <a:avLst/>
          </a:prstGeom>
          <a:ln w="0">
            <a:noFill/>
          </a:ln>
        </p:spPr>
      </p:pic>
      <p:sp>
        <p:nvSpPr>
          <p:cNvPr id="43" name="矩形 3"/>
          <p:cNvSpPr/>
          <p:nvPr/>
        </p:nvSpPr>
        <p:spPr>
          <a:xfrm>
            <a:off x="82692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zhxx.jpg" descr=""/>
          <p:cNvPicPr/>
          <p:nvPr/>
        </p:nvPicPr>
        <p:blipFill>
          <a:blip r:embed="rId1"/>
          <a:stretch/>
        </p:blipFill>
        <p:spPr>
          <a:xfrm>
            <a:off x="2987640" y="115920"/>
            <a:ext cx="3398760" cy="620640"/>
          </a:xfrm>
          <a:prstGeom prst="rect">
            <a:avLst/>
          </a:prstGeom>
          <a:ln w="0">
            <a:noFill/>
          </a:ln>
        </p:spPr>
      </p:pic>
      <p:pic>
        <p:nvPicPr>
          <p:cNvPr id="45" name="qscg.jpg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1727280" cy="431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684360" y="188784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全国各地打造“城市形象”的背景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武汉市积极投入其中。学校组织同学们开展以“武汉的城市形象”为主题的综合性学习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们小组确定的选题为“武汉公共场所的卫生状况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在准备开始搜集资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设计一个具体的调查项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对角圆角矩形 5"/>
          <p:cNvSpPr/>
          <p:nvPr/>
        </p:nvSpPr>
        <p:spPr>
          <a:xfrm>
            <a:off x="468360" y="836640"/>
            <a:ext cx="8351640" cy="4537080"/>
          </a:xfrm>
          <a:custGeom>
            <a:avLst/>
            <a:gdLst/>
            <a:ahLst/>
            <a:rect l="l" t="t" r="r" b="b"/>
            <a:pathLst>
              <a:path w="8352928" h="4536504">
                <a:moveTo>
                  <a:pt x="756099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3780404"/>
                </a:lnTo>
                <a:cubicBezTo>
                  <a:pt x="8352928" y="4197986"/>
                  <a:pt x="8014411" y="4536503"/>
                  <a:pt x="7596829" y="4536503"/>
                </a:cubicBezTo>
                <a:lnTo>
                  <a:pt x="0" y="4536504"/>
                </a:lnTo>
                <a:lnTo>
                  <a:pt x="0" y="4536504"/>
                </a:lnTo>
                <a:lnTo>
                  <a:pt x="0" y="756099"/>
                </a:lnTo>
                <a:cubicBezTo>
                  <a:pt x="0" y="338517"/>
                  <a:pt x="338517" y="0"/>
                  <a:pt x="75609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84360" y="39337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①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电影院的卫生状况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②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公园的垃圾回收情况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③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购物广场的保洁状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hxx.jpg" descr=""/>
          <p:cNvPicPr/>
          <p:nvPr/>
        </p:nvPicPr>
        <p:blipFill>
          <a:blip r:embed="rId1"/>
          <a:stretch/>
        </p:blipFill>
        <p:spPr>
          <a:xfrm>
            <a:off x="1979640" y="0"/>
            <a:ext cx="3398760" cy="620640"/>
          </a:xfrm>
          <a:prstGeom prst="rect">
            <a:avLst/>
          </a:prstGeom>
          <a:ln w="0">
            <a:noFill/>
          </a:ln>
        </p:spPr>
      </p:pic>
      <p:pic>
        <p:nvPicPr>
          <p:cNvPr id="50" name="qscg.jpg" descr=""/>
          <p:cNvPicPr/>
          <p:nvPr/>
        </p:nvPicPr>
        <p:blipFill>
          <a:blip r:embed="rId2"/>
          <a:stretch/>
        </p:blipFill>
        <p:spPr>
          <a:xfrm>
            <a:off x="6083280" y="0"/>
            <a:ext cx="1728720" cy="431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539640" y="126504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面是某小组在调查武汉市的交通现状时整理的资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充分利用下面图表包含的信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影响市民快捷出行的主要因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简明的语言为提升武汉的城市形象提出合理建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     资料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市民快捷出行因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对角圆角矩形 6"/>
          <p:cNvSpPr/>
          <p:nvPr/>
        </p:nvSpPr>
        <p:spPr>
          <a:xfrm>
            <a:off x="395280" y="907920"/>
            <a:ext cx="8569440" cy="5257800"/>
          </a:xfrm>
          <a:custGeom>
            <a:avLst/>
            <a:gdLst/>
            <a:ahLst/>
            <a:rect l="l" t="t" r="r" b="b"/>
            <a:pathLst>
              <a:path w="8568952" h="5256584">
                <a:moveTo>
                  <a:pt x="876114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4380469"/>
                </a:lnTo>
                <a:cubicBezTo>
                  <a:pt x="8568952" y="4864333"/>
                  <a:pt x="8176702" y="5256583"/>
                  <a:pt x="7692838" y="5256583"/>
                </a:cubicBezTo>
                <a:lnTo>
                  <a:pt x="0" y="5256584"/>
                </a:lnTo>
                <a:lnTo>
                  <a:pt x="0" y="5256584"/>
                </a:lnTo>
                <a:lnTo>
                  <a:pt x="0" y="876114"/>
                </a:lnTo>
                <a:cubicBezTo>
                  <a:pt x="0" y="392250"/>
                  <a:pt x="392250" y="0"/>
                  <a:pt x="876114" y="0"/>
                </a:cubicBez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468360" y="501336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据题针对“影响快捷出行的主要因素——道理拥堵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从硬件和软件两方面来提建议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言之成理即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10.jpg" descr="id:2147505721;FounderCES"/>
          <p:cNvPicPr/>
          <p:nvPr/>
        </p:nvPicPr>
        <p:blipFill>
          <a:blip r:embed="rId3"/>
          <a:stretch/>
        </p:blipFill>
        <p:spPr>
          <a:xfrm>
            <a:off x="2987640" y="3213000"/>
            <a:ext cx="244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zhxx.jpg" descr=""/>
          <p:cNvPicPr/>
          <p:nvPr/>
        </p:nvPicPr>
        <p:blipFill>
          <a:blip r:embed="rId1"/>
          <a:stretch/>
        </p:blipFill>
        <p:spPr>
          <a:xfrm>
            <a:off x="1979640" y="0"/>
            <a:ext cx="3398760" cy="620640"/>
          </a:xfrm>
          <a:prstGeom prst="rect">
            <a:avLst/>
          </a:prstGeom>
          <a:ln w="0">
            <a:noFill/>
          </a:ln>
        </p:spPr>
      </p:pic>
      <p:pic>
        <p:nvPicPr>
          <p:cNvPr id="56" name="qscg.jpg" descr=""/>
          <p:cNvPicPr/>
          <p:nvPr/>
        </p:nvPicPr>
        <p:blipFill>
          <a:blip r:embed="rId2"/>
          <a:stretch/>
        </p:blipFill>
        <p:spPr>
          <a:xfrm>
            <a:off x="6083280" y="0"/>
            <a:ext cx="1728720" cy="431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1271880" y="909000"/>
            <a:ext cx="29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料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交通问题措施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11280" y="1484280"/>
          <a:ext cx="7705800" cy="4392720"/>
        </p:xfrm>
        <a:graphic>
          <a:graphicData uri="http://schemas.openxmlformats.org/drawingml/2006/table">
            <a:tbl>
              <a:tblPr/>
              <a:tblGrid>
                <a:gridCol w="1728720"/>
                <a:gridCol w="4926240"/>
                <a:gridCol w="1050840"/>
              </a:tblGrid>
              <a:tr h="39996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52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硬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加快地铁及环线建设的进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增加便民自行车的投放数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增加公交车的数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增加出租车的数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措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0032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软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规范出租车服务的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科学规划公交线路站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规范便民自行车的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提高交通管理的效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措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zhxx.jpg" descr=""/>
          <p:cNvPicPr/>
          <p:nvPr/>
        </p:nvPicPr>
        <p:blipFill>
          <a:blip r:embed="rId1"/>
          <a:stretch/>
        </p:blipFill>
        <p:spPr>
          <a:xfrm>
            <a:off x="1979640" y="0"/>
            <a:ext cx="3398760" cy="620640"/>
          </a:xfrm>
          <a:prstGeom prst="rect">
            <a:avLst/>
          </a:prstGeom>
          <a:ln w="0">
            <a:noFill/>
          </a:ln>
        </p:spPr>
      </p:pic>
      <p:pic>
        <p:nvPicPr>
          <p:cNvPr id="60" name="qscg.jpg" descr=""/>
          <p:cNvPicPr/>
          <p:nvPr/>
        </p:nvPicPr>
        <p:blipFill>
          <a:blip r:embed="rId2"/>
          <a:stretch/>
        </p:blipFill>
        <p:spPr>
          <a:xfrm>
            <a:off x="6083280" y="0"/>
            <a:ext cx="1728720" cy="431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2219040" y="813960"/>
            <a:ext cx="466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“维护交通秩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武汉形象”的活动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作为一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志愿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学校附近路口维持交通秩序。当绿灯已转为红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阿姨牵着孩子准备横穿马路。你认为这么做既不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又很危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拦住这位阿姨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611280" y="304416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阿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您这样闯红灯多危险啊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红灯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绿灯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觉遵守交通规则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是对您和孩子的生命负责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父母负责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更是对社会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责啊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!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7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8"/>
          <p:cNvSpPr/>
          <p:nvPr/>
        </p:nvSpPr>
        <p:spPr>
          <a:xfrm>
            <a:off x="755640" y="4724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9"/>
          <p:cNvSpPr/>
          <p:nvPr/>
        </p:nvSpPr>
        <p:spPr>
          <a:xfrm>
            <a:off x="755640" y="4221000"/>
            <a:ext cx="770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1"/>
          <p:cNvSpPr/>
          <p:nvPr/>
        </p:nvSpPr>
        <p:spPr>
          <a:xfrm>
            <a:off x="1187280" y="494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姨听完后微微一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停了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zhxx.jpg" descr=""/>
          <p:cNvPicPr/>
          <p:nvPr/>
        </p:nvPicPr>
        <p:blipFill>
          <a:blip r:embed="rId1"/>
          <a:stretch/>
        </p:blipFill>
        <p:spPr>
          <a:xfrm>
            <a:off x="2843280" y="0"/>
            <a:ext cx="3398760" cy="620640"/>
          </a:xfrm>
          <a:prstGeom prst="rect">
            <a:avLst/>
          </a:prstGeom>
          <a:ln w="0">
            <a:noFill/>
          </a:ln>
        </p:spPr>
      </p:pic>
      <p:pic>
        <p:nvPicPr>
          <p:cNvPr id="68" name="scjn.jpg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016000" cy="504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755640" y="65664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中秋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               中秋节精彩短信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878840" y="1862640"/>
            <a:ext cx="568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风带去我的祝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月捎走我的问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送你一丝风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赠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缕月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月无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间有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秋快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赏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条短信采用拟人的修辞手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祝福交给清风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问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托给明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虽相隔千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但清风可以吹到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明月可以共享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方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以感到“我”真诚的心。风月无限大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它无边无际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但人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真情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却在你我的心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对角圆角矩形 5"/>
          <p:cNvSpPr/>
          <p:nvPr/>
        </p:nvSpPr>
        <p:spPr>
          <a:xfrm>
            <a:off x="468360" y="1844640"/>
            <a:ext cx="8351640" cy="1368360"/>
          </a:xfrm>
          <a:custGeom>
            <a:avLst/>
            <a:gdLst/>
            <a:ahLst/>
            <a:rect l="l" t="t" r="r" b="b"/>
            <a:pathLst>
              <a:path w="8352928" h="1368152">
                <a:moveTo>
                  <a:pt x="228029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1140122"/>
                </a:lnTo>
                <a:cubicBezTo>
                  <a:pt x="8352928" y="1266059"/>
                  <a:pt x="8250836" y="1368151"/>
                  <a:pt x="8124899" y="1368151"/>
                </a:cubicBezTo>
                <a:lnTo>
                  <a:pt x="0" y="1368152"/>
                </a:lnTo>
                <a:lnTo>
                  <a:pt x="0" y="1368152"/>
                </a:lnTo>
                <a:lnTo>
                  <a:pt x="0" y="228029"/>
                </a:lnTo>
                <a:cubicBezTo>
                  <a:pt x="0" y="102092"/>
                  <a:pt x="102092" y="0"/>
                  <a:pt x="22802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对角圆角矩形 6"/>
          <p:cNvSpPr/>
          <p:nvPr/>
        </p:nvSpPr>
        <p:spPr>
          <a:xfrm>
            <a:off x="395280" y="3500280"/>
            <a:ext cx="8497800" cy="2449800"/>
          </a:xfrm>
          <a:custGeom>
            <a:avLst/>
            <a:gdLst/>
            <a:ahLst/>
            <a:rect l="l" t="t" r="r" b="b"/>
            <a:pathLst>
              <a:path w="8496944" h="2448272">
                <a:moveTo>
                  <a:pt x="408053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2040218"/>
                </a:lnTo>
                <a:cubicBezTo>
                  <a:pt x="8496944" y="2265579"/>
                  <a:pt x="8314252" y="2448271"/>
                  <a:pt x="8088891" y="2448271"/>
                </a:cubicBezTo>
                <a:lnTo>
                  <a:pt x="0" y="2448272"/>
                </a:lnTo>
                <a:lnTo>
                  <a:pt x="0" y="2448272"/>
                </a:lnTo>
                <a:lnTo>
                  <a:pt x="0" y="408053"/>
                </a:lnTo>
                <a:cubicBezTo>
                  <a:pt x="0" y="182692"/>
                  <a:pt x="182692" y="0"/>
                  <a:pt x="40805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zhxx.jpg" descr=""/>
          <p:cNvPicPr/>
          <p:nvPr/>
        </p:nvPicPr>
        <p:blipFill>
          <a:blip r:embed="rId1"/>
          <a:stretch/>
        </p:blipFill>
        <p:spPr>
          <a:xfrm>
            <a:off x="1979640" y="0"/>
            <a:ext cx="3398760" cy="620640"/>
          </a:xfrm>
          <a:prstGeom prst="rect">
            <a:avLst/>
          </a:prstGeom>
          <a:ln w="0">
            <a:noFill/>
          </a:ln>
        </p:spPr>
      </p:pic>
      <p:pic>
        <p:nvPicPr>
          <p:cNvPr id="74" name="scjn.jpg" descr=""/>
          <p:cNvPicPr/>
          <p:nvPr/>
        </p:nvPicPr>
        <p:blipFill>
          <a:blip r:embed="rId2"/>
          <a:stretch/>
        </p:blipFill>
        <p:spPr>
          <a:xfrm>
            <a:off x="6083280" y="115920"/>
            <a:ext cx="2016000" cy="504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2118240" y="910800"/>
            <a:ext cx="5261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送你一份中秋月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真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质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营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幸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真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念你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赏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条短信的创作很有个性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它借用月饼的说明书稍加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绎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变成了一段即便是长篇鸿论也无法企及的浓浓祝福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读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之后倍感温馨和幸福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饼的成分是“真心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快乐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它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”的心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保质期是“一生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代表“我”祝福你到永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饼还有独特的营养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它可以让你得到温馨、幸福和真情。读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之后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会如品香茗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口齿生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对角圆角矩形 5"/>
          <p:cNvSpPr/>
          <p:nvPr/>
        </p:nvSpPr>
        <p:spPr>
          <a:xfrm>
            <a:off x="395280" y="907920"/>
            <a:ext cx="8497800" cy="1368720"/>
          </a:xfrm>
          <a:custGeom>
            <a:avLst/>
            <a:gdLst/>
            <a:ahLst/>
            <a:rect l="l" t="t" r="r" b="b"/>
            <a:pathLst>
              <a:path w="8496944" h="1368152">
                <a:moveTo>
                  <a:pt x="228029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1140122"/>
                </a:lnTo>
                <a:cubicBezTo>
                  <a:pt x="8496944" y="1266059"/>
                  <a:pt x="8394852" y="1368151"/>
                  <a:pt x="8268915" y="1368151"/>
                </a:cubicBezTo>
                <a:lnTo>
                  <a:pt x="0" y="1368152"/>
                </a:lnTo>
                <a:lnTo>
                  <a:pt x="0" y="1368152"/>
                </a:lnTo>
                <a:lnTo>
                  <a:pt x="0" y="228029"/>
                </a:lnTo>
                <a:cubicBezTo>
                  <a:pt x="0" y="102092"/>
                  <a:pt x="102092" y="0"/>
                  <a:pt x="22802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对角圆角矩形 6"/>
          <p:cNvSpPr/>
          <p:nvPr/>
        </p:nvSpPr>
        <p:spPr>
          <a:xfrm>
            <a:off x="468360" y="2421000"/>
            <a:ext cx="8424720" cy="3672000"/>
          </a:xfrm>
          <a:custGeom>
            <a:avLst/>
            <a:gdLst/>
            <a:ahLst/>
            <a:rect l="l" t="t" r="r" b="b"/>
            <a:pathLst>
              <a:path w="8424936" h="3672408">
                <a:moveTo>
                  <a:pt x="612080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3060327"/>
                </a:lnTo>
                <a:cubicBezTo>
                  <a:pt x="8424936" y="3398369"/>
                  <a:pt x="8150898" y="3672407"/>
                  <a:pt x="7812856" y="3672407"/>
                </a:cubicBezTo>
                <a:lnTo>
                  <a:pt x="0" y="3672408"/>
                </a:lnTo>
                <a:lnTo>
                  <a:pt x="0" y="3672408"/>
                </a:lnTo>
                <a:lnTo>
                  <a:pt x="0" y="612080"/>
                </a:lnTo>
                <a:cubicBezTo>
                  <a:pt x="0" y="274038"/>
                  <a:pt x="274038" y="0"/>
                  <a:pt x="61208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zhxx.jpg" descr=""/>
          <p:cNvPicPr/>
          <p:nvPr/>
        </p:nvPicPr>
        <p:blipFill>
          <a:blip r:embed="rId1"/>
          <a:stretch/>
        </p:blipFill>
        <p:spPr>
          <a:xfrm>
            <a:off x="2627280" y="0"/>
            <a:ext cx="3398760" cy="620640"/>
          </a:xfrm>
          <a:prstGeom prst="rect">
            <a:avLst/>
          </a:prstGeom>
          <a:ln w="0">
            <a:noFill/>
          </a:ln>
        </p:spPr>
      </p:pic>
      <p:pic>
        <p:nvPicPr>
          <p:cNvPr id="79" name="scjn.jpg" descr=""/>
          <p:cNvPicPr/>
          <p:nvPr/>
        </p:nvPicPr>
        <p:blipFill>
          <a:blip r:embed="rId2"/>
          <a:stretch/>
        </p:blipFill>
        <p:spPr>
          <a:xfrm>
            <a:off x="6515280" y="189000"/>
            <a:ext cx="2016000" cy="5032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1720440" y="896760"/>
            <a:ext cx="576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三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                         沁园春　三峡抒怀　　尹祖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我心飞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里长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仞波涛。看三峡大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峰发电。百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兴利除妖。山绕祥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河呈琼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岸叶红似火烧。高峡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湖景象。时代天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工程如此风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令五湖四海大退潮。惜涂山治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仅疏一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江围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拦蓄无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民族先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公天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难展宏图筑坝高。而今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环球世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谁来赶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594680" y="5590800"/>
            <a:ext cx="28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自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4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期《博览群书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教育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zhxx.jpg" descr=""/>
          <p:cNvPicPr/>
          <p:nvPr/>
        </p:nvPicPr>
        <p:blipFill>
          <a:blip r:embed="rId1"/>
          <a:stretch/>
        </p:blipFill>
        <p:spPr>
          <a:xfrm>
            <a:off x="1979640" y="0"/>
            <a:ext cx="3398760" cy="620640"/>
          </a:xfrm>
          <a:prstGeom prst="rect">
            <a:avLst/>
          </a:prstGeom>
          <a:ln w="0">
            <a:noFill/>
          </a:ln>
        </p:spPr>
      </p:pic>
      <p:pic>
        <p:nvPicPr>
          <p:cNvPr id="83" name="scjn.jpg" descr=""/>
          <p:cNvPicPr/>
          <p:nvPr/>
        </p:nvPicPr>
        <p:blipFill>
          <a:blip r:embed="rId2"/>
          <a:stretch/>
        </p:blipFill>
        <p:spPr>
          <a:xfrm>
            <a:off x="6083280" y="115920"/>
            <a:ext cx="2016000" cy="504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611280" y="8654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电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                     英国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岁男童成最小电脑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065680" y="2149920"/>
            <a:ext cx="525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英国中部城市考文垂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男孩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扬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库雷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今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已经通过微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pporting Windows 8.1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算机考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纪录地成为世界上获微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证的年龄最小的计算机专家。库雷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开始接触计算机。当身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的父亲意识到他具有电脑技术方面的天赋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便为他在家中建造了计算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验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帮助库雷希准备复杂的微软认证考试。经过五个月的训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库雷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松通过考试。微软考试通常是为致力于投身信息技术行业的成年人准备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11.jpg" descr="id:2147505743;FounderCES"/>
          <p:cNvPicPr/>
          <p:nvPr/>
        </p:nvPicPr>
        <p:blipFill>
          <a:blip r:embed="rId3"/>
          <a:stretch/>
        </p:blipFill>
        <p:spPr>
          <a:xfrm>
            <a:off x="4643280" y="2349360"/>
            <a:ext cx="3889440" cy="1584360"/>
          </a:xfrm>
          <a:prstGeom prst="rect">
            <a:avLst/>
          </a:prstGeom>
          <a:ln w="0">
            <a:noFill/>
          </a:ln>
        </p:spPr>
      </p:pic>
      <p:sp>
        <p:nvSpPr>
          <p:cNvPr id="87" name="对角圆角矩形 6"/>
          <p:cNvSpPr/>
          <p:nvPr/>
        </p:nvSpPr>
        <p:spPr>
          <a:xfrm>
            <a:off x="250920" y="907920"/>
            <a:ext cx="8642160" cy="5185080"/>
          </a:xfrm>
          <a:custGeom>
            <a:avLst/>
            <a:gdLst/>
            <a:ahLst/>
            <a:rect l="l" t="t" r="r" b="b"/>
            <a:pathLst>
              <a:path w="8640960" h="5184576">
                <a:moveTo>
                  <a:pt x="864113" y="0"/>
                </a:moveTo>
                <a:lnTo>
                  <a:pt x="8640960" y="0"/>
                </a:lnTo>
                <a:lnTo>
                  <a:pt x="8640960" y="0"/>
                </a:lnTo>
                <a:lnTo>
                  <a:pt x="8640960" y="4320462"/>
                </a:lnTo>
                <a:cubicBezTo>
                  <a:pt x="8640960" y="4797698"/>
                  <a:pt x="8254083" y="5184575"/>
                  <a:pt x="7776847" y="5184575"/>
                </a:cubicBezTo>
                <a:lnTo>
                  <a:pt x="0" y="5184576"/>
                </a:lnTo>
                <a:lnTo>
                  <a:pt x="0" y="5184576"/>
                </a:lnTo>
                <a:lnTo>
                  <a:pt x="0" y="864113"/>
                </a:lnTo>
                <a:cubicBezTo>
                  <a:pt x="0" y="386877"/>
                  <a:pt x="386877" y="0"/>
                  <a:pt x="86411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